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8E50-0B7B-4524-8110-A844E1636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E5BA-9CD4-47A0-AE39-922895B5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ADD4-4256-49CD-9DE5-8BDA8EDF0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C913-ADAC-40DA-8DC7-FA3A6EC0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AE1C5-FFEA-43EF-9785-ADBAF908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4D099-DD2C-4D55-9372-34AA73F0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7911F-141C-442C-B580-ACA094D9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DECA3-F141-4B51-80E3-B8A8D16F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230E3-ABE4-49B7-B2C7-11DB697B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772DE-DD2A-4081-9F30-8914C73A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CE019-506E-4964-A324-D4DFB49F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B953-35E6-4973-8C4C-A3D1D9D4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15B2C-50E9-4C01-9135-C8B2A17A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7DCE7-178B-45E2-AEAA-AE395123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D052E-C863-4845-84C0-7826AE96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0A547-6A0C-41D5-ACBF-76DF78BA8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23273-8232-450B-866C-4A8C0AD54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2D1A-0ECE-4D00-92F7-3286DDD3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F6A1-4C2C-4418-B71D-B7C03BEE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BC77-FFF0-449B-8CDB-2781780D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40F9-DBF0-451A-9F5B-84FF0B5A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AC36-075B-4B11-A297-91D558FD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A646-4AA1-418A-8879-D567F31D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F25C-063D-4743-BDB5-64351DA8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623D-E2F7-4DD1-ACCC-ACED5B53E21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B9E9-2C9F-4341-9ECF-6947265DFE8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e3e3ff"/>
                </a:solidFill>
                <a:latin typeface="Arial"/>
              </a:rPr>
              <a:t>Toucans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By Carol, Beracah, Thenuja and Senay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ope you enjoy it </a:t>
            </a:r>
            <a:r>
              <a:rPr b="0" lang="en-N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does it sleep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y sleep, they turns their heads around and tuck their bill under their wings and tai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Fast fa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ype: Bi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Diet: omniv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Average life span in the wild : up to 20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Size: body, 25 in ( 63.5 c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Group name: f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oucans are close relatives of woodpeck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Funny photo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Cool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 rot="595800">
            <a:off x="7164000" y="3715920"/>
            <a:ext cx="1695600" cy="2024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124000" y="5076720"/>
            <a:ext cx="2562480" cy="1781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7020000" y="549360"/>
            <a:ext cx="1704960" cy="2676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0" y="2276640"/>
            <a:ext cx="2381400" cy="19238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0" y="4869000"/>
            <a:ext cx="2016000" cy="1087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5003640" y="4697280"/>
            <a:ext cx="1872000" cy="2160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2987640" y="2852640"/>
            <a:ext cx="1100160" cy="2016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8"/>
          <a:stretch/>
        </p:blipFill>
        <p:spPr>
          <a:xfrm>
            <a:off x="4284720" y="1557360"/>
            <a:ext cx="2400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Credits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By Senaya </a:t>
            </a:r>
            <a:r>
              <a:rPr b="0" lang="en-N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By Beracah</a:t>
            </a:r>
            <a:r>
              <a:rPr b="0" lang="en-N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By Carol</a:t>
            </a:r>
            <a:r>
              <a:rPr b="0" lang="en-N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By Thenuja</a:t>
            </a:r>
            <a:r>
              <a:rPr b="0" lang="en-N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ank you watching this  Power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Rating= </a:t>
            </a:r>
            <a:r>
              <a:rPr b="0" lang="en-N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(ok ) </a:t>
            </a:r>
            <a:r>
              <a:rPr b="0" lang="en-N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Group rating= * * * * *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04000" y="981000"/>
            <a:ext cx="865080" cy="8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5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5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5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5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5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5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5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5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5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5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5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5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5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6" dur="5398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Home of the touca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 home of the toucan is the South America tropical fore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8360" y="2924280"/>
            <a:ext cx="2550960" cy="3022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492360" y="2924280"/>
            <a:ext cx="5040360" cy="3436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68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68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6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Die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oco toucans eat insects and sometimes they eat young birds ,eggs or liza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47640" y="3141720"/>
            <a:ext cx="1862280" cy="1942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427640" y="2997360"/>
            <a:ext cx="3768480" cy="250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98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98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The bil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 7.5 inch long (19cm long) bill use it to pick food. A toucans bill is a useful 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for fo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 toucan’s bill is useful as a feeding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 birds use them to reach fruit on branches that are to small to support their weight, and also to skin their pick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ore facts about bills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use their beaks to reach fruit or to pull chicks of the nest ho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oucans bill looks  heavy  but its lig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ucan talk with loud, croaking s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ills colour may be black, blue, brown, green, red, white, yellow or a combination of colour. The bright color on the bill help to attract a toucan m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Bab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oucans lay 2~4 white eggs in their nest, when the eggs hatch, the young emerge don’t have any down ( fine feather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 rot="1164000">
            <a:off x="4716000" y="3573360"/>
            <a:ext cx="2347920" cy="2081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Adaptat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oucans have three adaptations that help them survive. The first one is that they have bills to eat food. The second adaptation they have claws on each leg. They have 2 legs to grasp onto branches. The last adaptation is the colour it’s feather changed in order to blend into it’s surrounding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Predato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 toucans predators are humans, big cats and it’s worst enemy is the jaguar. When predators come the toucan camouflages with its bright colou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556000" y="3789360"/>
            <a:ext cx="3744720" cy="272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am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only people can play games, toucans can play to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ucans mates play games of catch, toss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r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340000" y="3573360"/>
            <a:ext cx="288144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6T19:35:09Z</dcterms:created>
  <dc:creator>5f09</dc:creator>
  <dc:description/>
  <dc:language>en-US</dc:language>
  <cp:lastModifiedBy>Samuel</cp:lastModifiedBy>
  <dcterms:modified xsi:type="dcterms:W3CDTF">2012-11-09T01:19:02Z</dcterms:modified>
  <cp:revision>51</cp:revision>
  <dc:subject/>
  <dc:title>Toucan</dc:title>
</cp:coreProperties>
</file>